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9BD-022C-4939-8FBF-10C4627C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A34-D043-4462-8560-3075EC15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4BF-03C0-486D-85D3-917436BE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588-7DFE-4F6A-9434-0AA37E9A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45C-745F-4751-B5ED-3F943D36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ADC-0516-429E-B3B4-DE5FA298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824-11EA-45D4-B088-0AB08CFF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164-5151-4E21-A301-FBD193A4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8C4-2C16-416F-9EB4-FC20F856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C20-DDC5-4F4B-8BEC-2444CB79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5A7-5050-4889-8302-43D3569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ECB-D5A1-4D82-B11B-3FCF53E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F60E-921F-4700-BDC7-F891DE5A9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hfw.nic.in/NRHM/Documents" TargetMode="External"/><Relationship Id="rId2" Type="http://schemas.openxmlformats.org/officeDocument/2006/relationships/hyperlink" Target="http://www.maha-arogya.gov.i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o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and Sanitation Committ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ion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b Sekhar D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2.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ed revolving fund – granted in install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joint account holders – states to dec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– Sarpanch/President of VHSC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ails and account register maintenance by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to decide (ASHA/VH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- 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ion and monitoring of the expenditure and records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M/MPW/Gram Panchay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intain updated Household Survey data to enable need based interven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of details of activities undertaken, expenditure incurred etc. will be maintained for public scrutin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reviewed by the ANM/Sarpan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level Panchayat Samiti will review functioning and progress of activities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rict Mission through members/block facilitators elicit information on the functioning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base may be maintained on VHS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Role of PRI in the success of the NRHM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 are seen as critical to the Planning, Implementation, and Monitoring of the NRH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o NRHM success 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ectoral converg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Community ownership steered through village level health committees at the level of the Gram Panchaya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Well functioning public sector health system with support  from the private sector. 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decentr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nfrastructure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bas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use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Rural Health Mission (2005-12), Mission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National Rural Health Miss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village health nutrition day, MOHFW, GO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mohfw.nic.in/NRHM/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aha-arogya.gov.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Thanks 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Health Offic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Arun Am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uberculosis Officer and DHO In-charg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Dha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raining Officer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s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framework revolves around activation of PRIs in the rural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of health take front s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environmental sanitation and nutrition identified as vital components for better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starts from the village level and flows 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 being merger of Panchayat Raj Village health committees and water and sanitation committe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o. of members: increased scope of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 – an institution in itself, most ambitious intervention under NRH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panch, Secretary, AWW, ANM, ASHA, teachers, village members, CBOs, SHGs are members, with due representation from each hamlet, community and weaker s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female members (SC/ST/OBC grou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from NGO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ve a huge task of building capacity of these Committee memb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o empower them to adapt to their new role: monitoring of activities, evaluate planning process and maintenance of accou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hand holding is important ? NGOs to come into pi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ning process to emerge through community development proces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hold survey: maintain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health rep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illage in the Gram Sab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ll members of health support team and work as a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etail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ory Rapid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SHAs and AWWs to collec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nd supervise ASHAs and AWWs to carry out all 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village health nutrition day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death*, birth and marriage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clea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environmental sanitation – organize public health activities like cleanliness drives, sanitation drives, school health activities, health and nutritio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F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ccounts – of untied funds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 funds from other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the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er will sign the attendance registers of th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Ws, Mid-Day meal Sanchalak, MPWs, and AN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Ws and ANMs to submit a bi-monthly village repor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committee along with the plan for next two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ommittee would decide format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 of the bi-monthly re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 will receive funds of Rs 10,000 per yea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d may be used as per the discretion of the VH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yardstick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indicators translated into Village health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of the A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alen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 and Maternal death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ialogue (Jan Samb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4:52:39Z</dcterms:created>
  <dc:creator>Dr. Shib Sekhar</dc:creator>
  <dc:description/>
  <dc:language>en-US</dc:language>
  <cp:lastModifiedBy>ShibSekhar</cp:lastModifiedBy>
  <dcterms:modified xsi:type="dcterms:W3CDTF">2008-02-06T15:13:25Z</dcterms:modified>
  <cp:revision>26</cp:revision>
  <dc:subject/>
  <dc:title>VHSC</dc:title>
</cp:coreProperties>
</file>